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8744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8744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234360"/>
            <a:ext cx="2971800" cy="48744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9234360"/>
            <a:ext cx="2971800" cy="48744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3149C22-3034-49D7-9E1C-1EF7E5F5A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8640" y="728640"/>
            <a:ext cx="4862520" cy="3646440"/>
          </a:xfrm>
          <a:prstGeom prst="rect">
            <a:avLst/>
          </a:prstGeom>
          <a:ln w="0">
            <a:noFill/>
          </a:ln>
        </p:spPr>
      </p:sp>
      <p:sp>
        <p:nvSpPr>
          <p:cNvPr id="16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El coordinador de eventos debería poseer dones de hospitalidad y administración para coordinar eventos sociales y reuniones a las cuales serán invitados los feligreses que no asisten. Ésta persona debería ser una mujer que tenga una gran preocupación por los feligreses que no asisten, alguien que se esforzará por establecer una amistad con ellos. Ésta persona debería ser muy amable y no juzgadora, que podrá ver más allá de las decisiones de estilo de vida que tomen los feligreses que no asisten. Además de responder a reuniones especiales para comer y tomar el té, los feligreses que no asisten pueden responder positivamente a reuniones sobre temas de interés femenino tales como prevención de violaciones, temas de salud femeninos o cocina vegetariana de bajas calorí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demás de los líderes, una parte integral del ministerio de recuperación la formarán las mujeres que serán mentores o tutores. El trabajo de dichos tutores es realizar el contacto con las mujeres que serán recuperadas, y amarlas mucho para que vuelvan a la Iglesia. Idealmente, cada mentor no debería intentar de contactar más de 2 feligreses que no asisten a la Iglesia al mismo tiempo, aunque uno solo es el número ideal. El mentor establece una amistad con ésta persona e intente realizar un compromiso abierto para seguir siendo su amiga todo el tiempo que la contraparte esté dispuesta a mantener la amistad—aunque regrese o no a la Iglesia. Ésta amistad incondicional es la clave del ministerio de la recuperación. Ella necesita experimentar el amor incondicional de Jesús en carne humana—el ment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egir los mentores es un trabajo importante para el líder del ministerio. Los mentores deben ser mujeres no juzgadoras que sepan escuchar y que tengan una buena relación con Dios. No todos en el equipo estarán calificados para este rol. A los miembros del equipo a los que les cueste amar, aceptar y no juzgar se les debe asigna otra tarea que no sea la de ser mentores. Al visitar las mujeres que serán recuperadas, los mentores probablemente se encontrarán con estilos de vida y prácticas que son contrarias a las creencias de la Iglesia. Deben poder amar al feligrés que no asiste a la Iglesia a pesar de esto, sin sermonearla acerca de las normas de la Iglesia y otros temas. Los sermones las asustarán, el amor las atraerá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gan en cuenta que la mayoría de la gente no abandona la Iglesia Adventista por problemas de doctrina. Muchos dejan de asistir porque sus sentimientos fueron heridos, o por enfermedad u otra circunstancia. (Estuvieron ausentes por mucho tiempo, y directamente dejaron de asistir.) Pero generalmente no abandonan la Iglesia por problemas doctrinales. Por eso los sermones sobre normas o doctrinas hacen más daño que bi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 ejemplo del poder del amor y la aceptación lo encontramos en Lucas 19:2-9, en la historia de Zaqueo, el cobrador de impuestos que quería ver a Jesús cuando pasaba por Jericó. Siendo un cobrador de impuestos, Zaqueo era desechado por la sociedad porque había engañado a mucha gente. Pero Zaqueo quería ver a Jesús más que cualquier otra cosa, y como era bajo de estatura, se subió a un árbol para ver mejor a Jesús cuando pasar por la cal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Jesús, por supuesto, sabía todo acerca de Zaqueo, y miró directamente hacia arriba, al árbol, ¡y le dijo a Zaqueo que bajara porque Él iba a quedarse en su hogar ese mismo día! Qué honor le dio Jesús a un cobrador de impuesto despreciado por to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ta que Jesús no le dijo a Zaqueo que iría a su hogar únicamente si se arrepentía de sus engaños y pagaba lo que le había quitado a la gente. No, Jesús leyó su corazón y lo aceptó tal como era. Pero en respuesta a tal amor y aceptación, vean lo que hizo Zaqueo. Inmediatamente prometió que daría la mitad de sus bienes a los pobres y que pagaría cuatro veces a los que había engañ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sta historia ilustra una gran verdad que es esencial en el ministerio de recuperación. Las personas responden al amor y la amistad. Por eso es esencial disponer de mentores que sean buenos en formar amistades y que no juzguen a las persona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buena organización y entrenamiento son la clave para el éxito del ministerio de recuperación. Tu equipo del ministerio de recuperación necesita reunirse varias veces antes de comenzar el ministerio, y regularmente durante el período en el que se lleve a cabo el proceso de recuperación. Los horarios de reunión de visita pueden variar. Pueden reunirse en algún hogar durante un par de horas, disponiendo de algún refresco con bocaditos. En otras ocasiones pueden encontrarse luego del servicio en la Iglesia por unos 15-20 minutos. Quizá deseen reunirse por una hora durante el tiempo del estudio de la le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ientación y el entrenamiento puede ser completado a lo largo de 4-12 reuniones, dependiendo del tiempo que dispongan y la cantidad de información que desean adquirir. Cuánto más grande sea tu ciudad y más mujeres estén involucradas, más reuniones deberán te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en de que las reuniones del equipo sean no solamente de naturaleza espiritual sino también social. El compañerismo contribuye a la camaradería. Pero recuerden de mantener a la vista la razón de la reunión y no se desvíen de ese propósito. Deberán cubrir la agenda en el tiempo estipul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xisten varias pautas generales para todas las 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cluyan siempre una sesión de oración antes de comenzar cada reunión. Anima a las mujeres a orar tanto por las necesidades de las mujeres a visitar como sus propias necesidad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diquen parte de cada reunión para escuchar informes de los mentores, de cómo están avanzando en sus amistades con las mujeres que han dejado de asistir a la Iglesia. Durante este tiempo es importante tratar al feligrés que no asiste más a la iglesia como un verdadero amigo, sin revelar aquellas cosas que te contó en priv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formen al coordinador de información sobre los contactos realizados por los mentores, al igual que el progreso de los feligreses que dejaron de asistir a la Iglesia. Incluyan puntos tales como si están tomando estudios bíblicos, asistiendo a algún servicio religioso o evento social de la Iglesia, si han sido rebautizados, o si están volviendo a la membresía de la iglesia por profesión de fe. Debería haber informes regulares del progreso de todas las personas en la lista de feligreses que dejaron de asistir a la Iglesi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tes de terminar la reunión hagan planes para la próxima reunión (tiempo, lugar, etc.)</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 equipo efectivo necesita hacer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a:t>
            </a:r>
            <a:r>
              <a:rPr b="0" lang="es-ES" sz="1200" spc="-1" strike="noStrike">
                <a:solidFill>
                  <a:srgbClr val="000000"/>
                </a:solidFill>
                <a:latin typeface="Century Gothic"/>
              </a:rPr>
              <a:t>firmar al líder y apoyarl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stablecer líneas claras de comunicación—consigan los números telefónicos y/o correos electrónicos de los miembros para mantenerse en conta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espeten los límites. Lleguen a tiempo a las reuniones, comiencen a tiempo y concluyan a tie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frenten los conflictos que puedan surgir—no los ignoren. Dirijan sus preocupaciones a los individuos involucrados, sin hablar por detrás. Esto es importante porque la gente a menudo abandona la Iglesia debido al mal manejo de un conflicto. Por lo tanto, es importante que el equipo del ministerio de la recuperación practique buenos métodos al manejar ciertos conflic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EMAS DE ORIENTACIÓN / ENTRENAMIENTO PARA SER TRATADOS EN LAS REUNIONES DEL EQUIPO DEL MINISTERIO DE RECUPERACIÓN</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Cada una de éstas cuatro temáticas pueden ser desarrollados en 1-3 reuniones del equipo del ministerio de recuperación. [Nota a los presentadores del seminario: Cualquiera de las preguntas para dialogar en los puntos A, B, C o D pueden ser utilizados en los diálogos de tu seminari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a:t>
            </a:r>
            <a:r>
              <a:rPr b="0" lang="es-ES" sz="1000" spc="-1" strike="noStrike">
                <a:solidFill>
                  <a:srgbClr val="000000"/>
                </a:solidFill>
                <a:latin typeface="Arial"/>
                <a:ea typeface="Arial"/>
              </a:rPr>
              <a:t>	</a:t>
            </a:r>
            <a:r>
              <a:rPr b="0" lang="es-ES" sz="1000" spc="-1" strike="noStrike">
                <a:solidFill>
                  <a:srgbClr val="000000"/>
                </a:solidFill>
                <a:latin typeface="Arial"/>
                <a:ea typeface="Arial"/>
              </a:rPr>
              <a:t>Cómo ministrar a los perdidos (RP-11)</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Áreas de enfoque: Razones por las que las mujeres abandona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dentificando a las mujeres que dejaro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ntrando en contacto con los feligreses perdid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asajes para la sesión de oración: Hebreos 12:2, 3; Filipenses 4:6; Mateo 7:7, 8</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guntas clave:</a:t>
            </a: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1.</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Cuenta sobre alguna oportunidad en la que sintió ganas de dejar la iglesia. ¿Qué sucedió? ¿Cómo te sentiste? ¿Qué te ayudó a resolver esos sentimien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2.</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Alguna vez has sido contactada por una organización que habías visitado (quizá otra Iglesia) y que no querías que te contacte? ¿Cómo te sentis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3.</a:t>
            </a: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mparte alguna experiencia en la que alguien te visitó en tu hogar y te sentiste incómoda. ¿Era un vendedor? ¿Alguien de otra denominación? ¿Qué fue lo que no te gustó de su visita?</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las razones por las que las mujeres abandonan la Iglesia. Aquí hay una lista de razones comunes por las que la gente deja de asistir, basada en investigaciones entre los Adventistas del Séptimo Dí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cónyuge y/o divorc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otro miembro de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slado a otra ciudad sin seguimiento por parte de la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nsición a una nueva etapa de la v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érdida de conexión con D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oledad y sentimiento de que no pertene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todavía no lo han hecho, hagan una lista de las mujeres que quieren recuperar, orando mucho por cada nombre. Deberían tener información por parte del pastor, la junta de iglesia y el resto de los feligreses. Además, deberán fijarse en otras fuentes de información, como las que ya han sido mencionad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ste a las mujeres, especialmente los mentores, a que comiencen a orar por las mujeres con las que podrían llegar a formar una amist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formas de realizar el primer contacto con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Una de las mejores formas de realizar el primer contacto es enviarle a cada mujer a la que esperan recuperar una suscripción de un año a la revista </a:t>
            </a:r>
            <a:r>
              <a:rPr b="0" i="1" lang="es-ES" sz="900" spc="-1" strike="noStrike">
                <a:solidFill>
                  <a:srgbClr val="000000"/>
                </a:solidFill>
                <a:latin typeface="Century Gothic"/>
                <a:ea typeface="Arial"/>
              </a:rPr>
              <a:t>Women of Spirit</a:t>
            </a:r>
            <a:r>
              <a:rPr b="0" lang="es-ES" sz="900" spc="-1" strike="noStrike">
                <a:solidFill>
                  <a:srgbClr val="000000"/>
                </a:solidFill>
                <a:latin typeface="Century Gothic"/>
                <a:ea typeface="Arial"/>
              </a:rPr>
              <a:t> (Mujeres con espíritu) (disponible a través de </a:t>
            </a:r>
            <a:r>
              <a:rPr b="0" i="1" lang="es-ES" sz="900" spc="-1" strike="noStrike">
                <a:solidFill>
                  <a:srgbClr val="000000"/>
                </a:solidFill>
                <a:latin typeface="Century Gothic"/>
                <a:ea typeface="Arial"/>
              </a:rPr>
              <a:t>Review &amp; Herald Publishing Association)</a:t>
            </a:r>
            <a:r>
              <a:rPr b="0" lang="es-ES" sz="900" spc="-1" strike="noStrike">
                <a:solidFill>
                  <a:srgbClr val="000000"/>
                </a:solidFill>
                <a:latin typeface="Century Gothic"/>
                <a:ea typeface="Arial"/>
              </a:rPr>
              <a:t>.  </a:t>
            </a:r>
            <a:r>
              <a:rPr b="0" i="1" lang="es-ES" sz="900" spc="-1" strike="noStrike">
                <a:solidFill>
                  <a:srgbClr val="000000"/>
                </a:solidFill>
                <a:latin typeface="Century Gothic"/>
                <a:ea typeface="Arial"/>
              </a:rPr>
              <a:t>Women of Spirit </a:t>
            </a:r>
            <a:r>
              <a:rPr b="0" lang="es-ES" sz="900" spc="-1" strike="noStrike">
                <a:solidFill>
                  <a:srgbClr val="000000"/>
                </a:solidFill>
                <a:latin typeface="Century Gothic"/>
                <a:ea typeface="Arial"/>
              </a:rPr>
              <a:t>ofrece una suscripción especial para el ministerio de recuperación </a:t>
            </a:r>
            <a:r>
              <a:rPr b="0" i="1" lang="es-ES" sz="900" spc="-1" strike="noStrike">
                <a:solidFill>
                  <a:srgbClr val="000000"/>
                </a:solidFill>
                <a:latin typeface="Century Gothic"/>
                <a:ea typeface="Arial"/>
              </a:rPr>
              <a:t>Heart Call</a:t>
            </a:r>
            <a:r>
              <a:rPr b="0" lang="es-ES" sz="900" spc="-1" strike="noStrike">
                <a:solidFill>
                  <a:srgbClr val="000000"/>
                </a:solidFill>
                <a:latin typeface="Century Gothic"/>
                <a:ea typeface="Arial"/>
              </a:rPr>
              <a:t> (Llamado al corazón), por lo que será bueno mencionar que la revista es para un ministerio de recuperación cuando envíes el pedido. Ellos te enviarán una tarjeta para que a su vez ustedes envíen a cada mujer informándoles que su Iglesia se preocupa por ellas y les está enviando una suscripción gratis a </a:t>
            </a:r>
            <a:r>
              <a:rPr b="0" i="1" lang="es-ES" sz="900" spc="-1" strike="noStrike">
                <a:solidFill>
                  <a:srgbClr val="000000"/>
                </a:solidFill>
                <a:latin typeface="Century Gothic"/>
                <a:ea typeface="Arial"/>
              </a:rPr>
              <a:t>Mujeres con Espíritu.</a:t>
            </a:r>
            <a:r>
              <a:rPr b="0" lang="es-ES" sz="900" spc="-1" strike="noStrike">
                <a:solidFill>
                  <a:srgbClr val="000000"/>
                </a:solidFill>
                <a:latin typeface="Century Gothic"/>
                <a:ea typeface="Arial"/>
              </a:rPr>
              <a:t> Esto las pondrá en alerta para estar a la espera de la revis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 cuanto las mujer en tu lista han tenido tiempo para recibir el primer número de la revista, los mentores pueden llamarlas, preguntándoles si han tenido tiempo de leer la revista, si les gustó, etc. Ésta es una manera fácil y no amenazadora de abrir la comunicación entre los mentores y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viven en una división en la que no puedes enviar una suscripción a </a:t>
            </a:r>
            <a:r>
              <a:rPr b="0" i="1" lang="es-ES" sz="900" spc="-1" strike="noStrike">
                <a:solidFill>
                  <a:srgbClr val="000000"/>
                </a:solidFill>
                <a:latin typeface="Century Gothic"/>
                <a:ea typeface="Arial"/>
              </a:rPr>
              <a:t>Mujeres con Espíritu, </a:t>
            </a:r>
            <a:r>
              <a:rPr b="0" lang="es-ES" sz="900" spc="-1" strike="noStrike">
                <a:solidFill>
                  <a:srgbClr val="000000"/>
                </a:solidFill>
                <a:latin typeface="Century Gothic"/>
                <a:ea typeface="Arial"/>
              </a:rPr>
              <a:t>pueden enviar la meditación matinal para mujeres. Además, pueden contactarse con las oficinas de su división para averiguar sobre otras revistas que podrían enviar suscripciones u algún otro materiales para devoción personal. Al enviar cualquier material, asegúrense de incluir una nota personal, permitiéndole a la persona darse cuenta de que su Iglesia está pensando en ella. Si les están enviando una suscripción a una revista periódica, envíenle una nota dejándole saber que la Iglesia se lo envía. En éstas notas, asegúrense de dejarle en claro que se las extraña en la Iglesia. Luego de unos días el mentor puede avanzar con una llamada telefónica preguntando si la mujer tuvo tiempo de leer el material, si le gustó,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maneras de realizar el segundo contacto. Quizá quiera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itarla a salir a com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lamarla por teléfon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viarle una tarjeta con una nota personal inclu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Invitarla a algún evento social (que no sea de la Iglesia)</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emociones que los mentores puedan identificar en los feligreses cuando realizan el contacto Resistencia—¿Realmente les importará si vuelv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specha—¿Formaré parte de algún proyecto de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ojo—¡No quiero hablar contig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rpresa—Eres la primer persona que entra en contacto conmigo desde que dejé de asistir hace añ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Vacilación—¿Qué deseas? ¿Diner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feligrés perdido siente que alguien en la Iglesia le hizo algún mal, no meta excusas. Esto invalidará sus sentimientos y no querrá ser su amiga. En vez de excusar los problemas, diga algo como, “Lamento tanto que eso haya ocurrido. Por favor regrese y denos otra oportunida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8640" y="728640"/>
            <a:ext cx="4862520" cy="3646440"/>
          </a:xfrm>
          <a:prstGeom prst="rect">
            <a:avLst/>
          </a:prstGeom>
          <a:ln w="0">
            <a:noFill/>
          </a:ln>
        </p:spPr>
      </p:sp>
      <p:sp>
        <p:nvSpPr>
          <p:cNvPr id="17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t>
            </a:r>
            <a:r>
              <a:rPr b="0" lang="es-ES" sz="1200" spc="-1" strike="noStrike">
                <a:solidFill>
                  <a:srgbClr val="000000"/>
                </a:solidFill>
                <a:latin typeface="Arial"/>
                <a:ea typeface="Arial"/>
              </a:rPr>
              <a:t>	</a:t>
            </a:r>
            <a:r>
              <a:rPr b="1" lang="es-ES" sz="1200" spc="-1" strike="noStrike">
                <a:solidFill>
                  <a:srgbClr val="000000"/>
                </a:solidFill>
                <a:latin typeface="Arial"/>
                <a:ea typeface="Arial"/>
              </a:rPr>
              <a:t>El proceso de saneamiento (RP-1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Aprenda a ser una oyente más efectiv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demostrar que te preocupas por las mujeres que han dejado de asistir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ministrar las necesidades de las mujeres que ya no asisten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Santiago 1:19; Gálatas 6:2; Romanos 12:9-1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en la que sentiste la necesidad de ser escuchada, pero la otra persona te cortaba y no te dejaba hablar. ¿Cómo te sentiste? ¿Cuáles son algunas de las características de un buen oyent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del pasado en la que fuiste herida profundamente por una situación difícil, y en la que anhelabas que alguien demostrara preocupación e interés. ¿Qué hubiera sido lo más significativo para ti en es momen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Si tuviste un problema serio, ¿adonde irías? Si tu mundo se desmoronara, ¿donde encontrarías a alguien a la que le importaras lo suficiente como para ayudart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C</a:t>
            </a:r>
            <a:r>
              <a:rPr b="0" lang="es-ES" sz="1200" spc="-1" strike="noStrike">
                <a:solidFill>
                  <a:srgbClr val="000000"/>
                </a:solidFill>
                <a:latin typeface="Century Gothic"/>
                <a:ea typeface="Arial"/>
              </a:rPr>
              <a:t>omenten distintas maneras de hacerse amigas con las mujeres que están ayud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legar a estar genuinamente interesada en el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nría con frecuencia. Expresa tu sentido del humor cuando sea apropi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los nombres de las personas en las que se mostró interes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bla acerca de sus intere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segúrate de que entienda cuán importante es para ti; debes ser su amiga son sincer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a una buena oyente; anímela a hablar sobre sí mism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antén sus confidencias en estricto secre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no estás allí para hablar, retar, pedir o ro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sea defensiva. Si está enojada, déjala que descargue su i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uestra empatía. Si ha sido herida profundamente, permítale que exprese su d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hecho de tener una actitud abierta, honesta y de aceptación le ayudarán a sanar mucho más que inventar excusas o defender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oma las cosas con calma. Tenga tacto y sea genuina al expresar tus propios sentimientos, ministrando sus necesidad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maneras de demostrar preocup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le caigas de sorpresa. Siempre debes llamarla pri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quieras hacer una cita para encontrarse para almorz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Tenga siempre una actitud positiva y de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spete su espacio personal y ofrezca la oportunidad de encontrarse en un lugar neutr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verigua si hay algo que puedas hacer por ella en forma personal, como cuidar de sus hijos, realizar un grupo de apoyo, o necesidades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que debes pasar mucho tiempo </a:t>
            </a:r>
            <a:r>
              <a:rPr b="0" i="1" lang="es-ES" sz="1200" spc="-1" strike="noStrike">
                <a:solidFill>
                  <a:srgbClr val="000000"/>
                </a:solidFill>
                <a:latin typeface="Century Gothic"/>
                <a:ea typeface="Arial"/>
              </a:rPr>
              <a:t>escuchando</a:t>
            </a:r>
            <a:r>
              <a:rPr b="0"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Planifiquen un evento social del ministerio de la mujer en un lugar que no sea la Iglesia para invitar a los feligreses perdidos. El mentor debería tratar de pasar a buscar a su amiga si es posible. El feligrés perdido puede llegar a tener miedo de asistir a un evento organizado por la Iglesia, y esto le hará las cosas más fácil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8640" y="728640"/>
            <a:ext cx="4862520" cy="3646440"/>
          </a:xfrm>
          <a:prstGeom prst="rect">
            <a:avLst/>
          </a:prstGeom>
          <a:ln w="0">
            <a:noFill/>
          </a:ln>
        </p:spPr>
      </p:sp>
      <p:sp>
        <p:nvSpPr>
          <p:cNvPr id="14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parábola de la oveja perdida se encuentra en Lucas 15:4-6 “¿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  El Pastor no estaba satisfecho con que el 99 % de sus ovejas estén seguras—el quería el 100%. Y no se detuvo para descansar hasta que encontró a es oveja perd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 verán, la oveja no sabía que estaba en peligro—pero el pastor sí sabía. El pastor sabía que había gatos monteses y otros animales buscando a la oveja para devorarla. Él sabía que la oveja podría caerse de un precipicio o ahogarse en un arroyo. La oveja probablemente ni siquiera se había apartado intencionalmente. Quizá le había estado prestando más atención al pasto que tenía por delante que al resto de la manada, y simplemente siguió comiendo en la dirección opuesta al resto de las ovejas. Cómo sucedió no es lo importante. Lo importante es que la oveja estaba perdida y su vida estaba en peligr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 lo que hizo el Pastor cuando encontró a su oveja. “La pone sobre sus hombros gozoso; y al llegar a casa, reúne a sus amigos y vecinos, diciéndoles: Gozaos conmigo, porque he encontrado mi oveja que se había perdido.” (Versículo 6).</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 parábola nos enseña que Dios se preocupa por las almas perdidas—y que también deberían preocuparnos a nosotros. No importa si una persona abandona la Iglesia intencionalmente, se deja ahogar por problemas personales o simplemente perdió el hábito de asistir a la Iglesia. Lo que es importante para Dios—y debería serlo para nosotros—es que ya no asisten a la Igles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chas congregaciones probablemente estarían satisfechas con el 99 % de sus miembros asistiendo a los servicios e la Iglesia con regularidad. Sin embargo, la mayoría d las Iglesias tienen menos de 99 % de asistencia. ¿Deberíamos conformarnos con una pequeña porción de nuestros feligreses asistiendo a la Iglesia con regularidad? Si creemos en la parábola de la oveja perdida, nuestra meta debería ser 100 % de asistenci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construir fe y confian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de enfoque: Cómo construir relaciones con mujeres que ya no asisten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saber cuando y donde compartir tu fe con una mujer que no está asistiendo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invitar a mujeres que forman parte de tu plan de recuperación a unirse a un grupo pequeño o de estudio de la Bibl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asajes para la sesión de oración:</a:t>
            </a:r>
            <a:r>
              <a:rPr b="0" lang="es-ES" sz="1200" spc="-1" strike="noStrike">
                <a:solidFill>
                  <a:srgbClr val="000000"/>
                </a:solidFill>
                <a:latin typeface="Century Gothic"/>
                <a:ea typeface="Arial"/>
              </a:rPr>
              <a:t> 1 Juan 3:18; 1 Pedro 3:15; Marcos 1: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1" lang="es-ES_tradnl"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uenta sobre algún momento en el que alguien te decepcionó tanto que sentiste que no podías confiar nunca más en esa persona. ¿Qué es lo que realmente te ayuda a confiar en algu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Alguna vez te sentiste incómodo cuando alguien intentó compartir su fe contigo? ¿Qué sucedió? ¿Qué hubieras prefer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Qué disciplina espiritual (oración, estudio de la Biblia, meditación, ayuno, escribir un diario, etc.) te ayuda más en tu caminar diario con el Señor?</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25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diquen tiempo a comentar las características de un amigo confiabl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1" lang="es-ES_tradnl" sz="1200" spc="-1" strike="noStrike">
                <a:solidFill>
                  <a:srgbClr val="000000"/>
                </a:solidFill>
                <a:latin typeface="Century Gothic"/>
                <a:ea typeface="Times New Roman"/>
              </a:rPr>
              <a:t>(Ver Power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eje un tiempo para que los mentores reflexionen si las mujeres que están ayudando están desarrollando confianza en ellas o no. ¿Están compartiendo necesidades internas profundas con sus mento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 discutir las distintas maneras de compartir tu fe con tu amiga considera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ujer que estás ayudando probablemente sigue creyendo en las enseñanzas Adventistas, aún si ha olvidado algunas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necesita sermones acerca de las distintas no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sido herida por la Iglesia u otro feligrés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hecho algo por lo que siente que Dios no la puede perdon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la no compartirá sus verdaderos sentimientos hasta que confía plenamente en ti.</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25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potenciales de compartir su 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vita discusio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	</a:t>
            </a:r>
            <a:r>
              <a:rPr b="0" lang="es-ES" sz="900" spc="-1" strike="noStrike">
                <a:solidFill>
                  <a:srgbClr val="000000"/>
                </a:solidFill>
                <a:latin typeface="Century Gothic"/>
                <a:ea typeface="Arial"/>
              </a:rPr>
              <a:t>Ten cuidado de no desviarte con asuntos doctrinales si su comunión con Dios está un poco temblequ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ando habla refiérase a sus “necesidad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enta la historia de tu conversión/enamoramiento con el Señor y de cuán importante El es en tu vida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ahor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_tradnl" sz="900" spc="-1" strike="noStrike">
                <a:solidFill>
                  <a:srgbClr val="000000"/>
                </a:solidFill>
                <a:latin typeface="Century Gothic"/>
                <a:ea typeface="Arial"/>
              </a:rPr>
              <a:t>N</a:t>
            </a:r>
            <a:r>
              <a:rPr b="0" lang="es-ES" sz="900" spc="-1" strike="noStrike">
                <a:solidFill>
                  <a:srgbClr val="000000"/>
                </a:solidFill>
                <a:latin typeface="Century Gothic"/>
                <a:ea typeface="Arial"/>
              </a:rPr>
              <a:t>o la fuer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Sé bondadosa y compasiv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ambia de tema si ella no quiere hablar de algo en particul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xplora la realidad de que en el curso de su creciente amistad el mentor puede tener la posibilidad de invitar a su amiga a aceptar a Jesús orando con ella y luego invitándola a realizar alguna actividad que la ayude a seguir creciendo en la fe. Aquí hay algunos puntos para considera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no sea el momento de invitarla a la Iglesia. Puede sentir que no es un lugar seguro, pero quizá esté dispuesta a reunirse en algún hogar para estudiar la Bibl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parte algunos de tus hábitos de devoción personal con ell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é abierta acerca de tu propia necesidad de otros amigos Cristianos que te apoyen y cuenten contig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asistir a un grupo pequeño o grupo de oración, o simplemente que ustedes dos estudien sol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termines con la amistad si ella no está dispuesta a unirse a un grupo de estudio. Ten pacienc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E</a:t>
            </a:r>
            <a:r>
              <a:rPr b="0" lang="es-ES" sz="900" spc="-1" strike="noStrike">
                <a:solidFill>
                  <a:srgbClr val="000000"/>
                </a:solidFill>
                <a:latin typeface="Century Gothic"/>
                <a:ea typeface="Arial"/>
              </a:rPr>
              <a:t>l líder de estudio de la Biblia debería tomar la iniciativa planificando uno o más grupos pequeños y/o estudios bíblicos en los hogares de los feligreses. El número de grupos dependerá del número de feligreses perdidos que están listos para unirse a dicho grupo. Quizá sea más fácil para los feligreses perdidos ir al hogar de alguien en lugar de tomar los estudios en la Iglesia, especialmente si la mujer no ha asistido a la Iglesia hace mucho tiemp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lgunas posibilidades para el estudio en grupo s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l curso bíblico </a:t>
            </a:r>
            <a:r>
              <a:rPr b="0" i="1" lang="es-ES" sz="900" spc="-1" strike="noStrike">
                <a:solidFill>
                  <a:srgbClr val="000000"/>
                </a:solidFill>
                <a:latin typeface="Century Gothic"/>
                <a:ea typeface="Arial"/>
              </a:rPr>
              <a:t>Come Alive With Jesus</a:t>
            </a:r>
            <a:r>
              <a:rPr b="0" lang="es-ES" sz="900" spc="-1" strike="noStrike">
                <a:solidFill>
                  <a:srgbClr val="000000"/>
                </a:solidFill>
                <a:latin typeface="Century Gothic"/>
                <a:ea typeface="Arial"/>
              </a:rPr>
              <a:t>, (Revive con Jesús) que enfoca la construcción de una relación con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Jesú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Century Gothic"/>
                <a:ea typeface="Arial"/>
              </a:rPr>
              <a:t>	</a:t>
            </a:r>
            <a:r>
              <a:rPr b="0" i="1" lang="es-ES" sz="900" spc="-1" strike="noStrike">
                <a:solidFill>
                  <a:srgbClr val="000000"/>
                </a:solidFill>
                <a:latin typeface="Century Gothic"/>
                <a:ea typeface="Arial"/>
              </a:rPr>
              <a:t>Bible Studies for Busy Women</a:t>
            </a:r>
            <a:r>
              <a:rPr b="0" lang="es-ES" sz="900" spc="-1" strike="noStrike">
                <a:solidFill>
                  <a:srgbClr val="000000"/>
                </a:solidFill>
                <a:latin typeface="Century Gothic"/>
                <a:ea typeface="Arial"/>
              </a:rPr>
              <a:t>, (Estudios bíblicos para mujeres ocupadas) que son estudios bíblicos de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relaciones, diseñados especialmente para enfrentar las necesidades de las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	</a:t>
            </a:r>
            <a:r>
              <a:rPr b="0" lang="es-ES" sz="900" spc="-1" strike="noStrike">
                <a:solidFill>
                  <a:srgbClr val="000000"/>
                </a:solidFill>
                <a:latin typeface="Century Gothic"/>
                <a:ea typeface="Times New Roman"/>
              </a:rPr>
              <a:t>Otros libros os lecciones de interés para las mujeres: </a:t>
            </a:r>
            <a:r>
              <a:rPr b="0" i="1" lang="es-ES" sz="900" spc="-1" strike="noStrike">
                <a:solidFill>
                  <a:srgbClr val="000000"/>
                </a:solidFill>
                <a:latin typeface="Century Gothic"/>
                <a:ea typeface="Times New Roman"/>
              </a:rPr>
              <a:t>El camino a Cristo </a:t>
            </a:r>
            <a:r>
              <a:rPr b="0" lang="es-ES" sz="900" spc="-1" strike="noStrike">
                <a:solidFill>
                  <a:srgbClr val="000000"/>
                </a:solidFill>
                <a:latin typeface="Century Gothic"/>
                <a:ea typeface="Times New Roman"/>
              </a:rPr>
              <a:t>también trae guías de estudi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25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novando mi compromiso con Cris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Cómo invitar a tu amiga a asistir a la Iglesia el Sába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ómo invitar a tu amiga a una reunión de evangelism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planificar eventos para darle la bienvenida nuevamente a los feligreses perdidos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Hebreos 10:25; Romanos 10:17; Lucas 15:8-10</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guna vez estuviste nerviosa de asistir a la Iglesia? Quizá habías dejado de asistir y luego volviste. O quizá eras una visita en otra Iglesia. Cuenta sobre tu experienc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é es lo que más te gusta de las reuniones de evangelismo de tu Iglesia? ¿Qué es lo que menos te gust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e gustan las celebraciones? Comparte tu experiencia de alguna vez que asististe a una fiesta de celebración que te gustó.</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25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el hecho de que volver a la Iglesia luego de una ausencia prolongada puede ser difícil para una persona. ¿Cómo puedes hacer para que sea una experiencia positiva</a:t>
            </a:r>
            <a:r>
              <a:rPr b="0" lang="es-ES_tradnl" sz="900" spc="-1" strike="noStrike">
                <a:solidFill>
                  <a:srgbClr val="000000"/>
                </a:solidFill>
                <a:latin typeface="Century Gothic"/>
                <a:ea typeface="Arial"/>
              </a:rPr>
              <a:t>?</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Ofrécete para buscarla y llevarla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trena a los encargados de la dar la bienvenida a que saluden calurosamente a los feligreses perdidos sin preguntar porqué han estado ausentes por tanto tiemp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unirse a tu clase de Escuela Sabátic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hagan que se ponga de pie para introducirse o que tenga que llevar un cartelito que diga “visit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ella con su familia a almorzar en tu hoga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 veces un feligrés perdido puede mencionar en la Iglesia o en la clase de Escuela Sabática algo de su amargura o frustración con la Iglesia. Es importante que no reacciones en forma negativa ante estas declaraciones. Aquí hay algunas pautas de ayud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ea paciente y escuch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Reconozca que la Iglesia no es perfecta y que la mayoría de la gente tiene algún tipo de frustración con respecto a algo o alguie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intente corregir lo que ella dice. Solo escuche, teniendo en cuenta que escuchar no significa necesariamente que estás de acuerd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de invitar a feligreses perdidos a reuniones de evangelismo. Quizá sea mejor expresar en la invitación la manera en que esa reunión es una forma valiosa de fortalecer la fe, o de analizarla. Nuevamente, es importante que el mentor se ofrezca para asistir a las reuniones con su amig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Piensen en la parábola de la moneda perdida. En ésta parábola,, cuando la mujer encontró su moneda, se alegró con sus amigas. Comenten maneras en que el equipo del ministerio de la recuperación o tu Iglesia puede regocijarse dándole la bienvenida a las mujeres que están regresando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quieran darle a cada una un regalo para demostrar tu alegría, podrían ser flores, un certificado de regalo, un libro, o quizá quieras considerar llevarlas a una comida especial o tener una reunión social especial en su hono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Cierren la reunión invitando a los miembros del equipo a compartir una bendición, respuesta a oración u otro motivo de gozo relacionado con el ministerio de la recuperación.</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8640" y="728640"/>
            <a:ext cx="4862520" cy="3646440"/>
          </a:xfrm>
          <a:prstGeom prst="rect">
            <a:avLst/>
          </a:prstGeom>
          <a:ln w="0">
            <a:noFill/>
          </a:ln>
        </p:spPr>
      </p:sp>
      <p:sp>
        <p:nvSpPr>
          <p:cNvPr id="19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UNIONES DE SEGUI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uego de que el ministerio de la recuperación está experimentando el éxito, y los feligreses perdidos están regresando a la Iglesia tendrán la necesidad de que el equipo se siga reuniendo de vez en cuando a fin de formular planes par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8640" y="728640"/>
            <a:ext cx="4862520" cy="3646440"/>
          </a:xfrm>
          <a:prstGeom prst="rect">
            <a:avLst/>
          </a:prstGeom>
          <a:ln w="0">
            <a:noFill/>
          </a:ln>
        </p:spPr>
      </p:sp>
      <p:sp>
        <p:nvSpPr>
          <p:cNvPr id="15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ese mismo capítulo de Lucas, versículos 8-9, encontramos otra parábola que ilustra la preocupación de Dios por los perdido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O qué mujer que tiene diez dracmas, no enciende la lámpara, y barre la casa, y busca con diligencia hasta encontrarla? Y cuando la encuentra, reúne a sus amigas y vecinas, diciendo: Gozaos y alegraos conmigo, porque he encontrado la dracma que había perd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8640" y="728640"/>
            <a:ext cx="4862520" cy="3646440"/>
          </a:xfrm>
          <a:prstGeom prst="rect">
            <a:avLst/>
          </a:prstGeom>
          <a:ln w="0">
            <a:noFill/>
          </a:ln>
        </p:spPr>
      </p:sp>
      <p:sp>
        <p:nvSpPr>
          <p:cNvPr id="15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l versículo 10 (RP-3) nos dice, “Así os digo que hay gozo delante de los ángeles de Dios por un pecador que se arrepiente.” Siendo mujeres, la mayoría de nosotras podemos identificarnos con la urgencia de encontrar algo importante que se había perdido—tu cartera, tus llaves o incluso una amistad. Quizá Dios te está impresionando en este mismo instante con la importancia de recuperar a mujeres que están fuera de la Iglesia—aquellas que ya no asisten, no importa cual sea el mo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NECESIDAD DE RECUPER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A fin de comenzar un ministerio de recuperación, debe haber una necesidad reconocible en tu Iglesia, al igual que un fuerte deseo de persuadir a las mujeres que ya no asisten. A medida que Dios impresione los corazones del equipo del ministerio de la mujer, ellas deberían comenzar a orar por el tema. ¿Quién está fuera de la Iglesia? Pídanle a Dios que las guíe a la mujer a la que Él quiere que alargues tu mano. Recuerden, la oración es la clave para el éxito en este emprendimi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ara inspirarse, lean las parábolas sobre las “cosas perdidas” en Lucas 15 y otros libros que hablen acerca de feligreses perdidos. El </a:t>
            </a:r>
            <a:r>
              <a:rPr b="0" i="1" lang="es-ES" sz="1000" spc="-1" strike="noStrike">
                <a:solidFill>
                  <a:srgbClr val="000000"/>
                </a:solidFill>
                <a:latin typeface="Century Gothic"/>
                <a:ea typeface="Arial"/>
              </a:rPr>
              <a:t>Heart Call </a:t>
            </a:r>
            <a:r>
              <a:rPr b="0" lang="es-ES" sz="1000" spc="-1" strike="noStrike">
                <a:solidFill>
                  <a:srgbClr val="000000"/>
                </a:solidFill>
                <a:latin typeface="Century Gothic"/>
                <a:ea typeface="Arial"/>
              </a:rPr>
              <a:t>kit, disponible a través de Advent</a:t>
            </a:r>
            <a:r>
              <a:rPr b="0" i="1" lang="es-ES" sz="1000" spc="-1" strike="noStrike">
                <a:solidFill>
                  <a:srgbClr val="000000"/>
                </a:solidFill>
                <a:latin typeface="Century Gothic"/>
                <a:ea typeface="Arial"/>
              </a:rPr>
              <a:t>Source</a:t>
            </a:r>
            <a:r>
              <a:rPr b="0" lang="es-ES" sz="1000" spc="-1" strike="noStrike">
                <a:solidFill>
                  <a:srgbClr val="000000"/>
                </a:solidFill>
                <a:latin typeface="Century Gothic"/>
                <a:ea typeface="Arial"/>
              </a:rPr>
              <a:t> es un recurso excel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iensa en mujeres muy queridas por ti que dejen de asistir a la Iglesia. ¿No sientes el anhelo de que regresen? ¿No te encantaría que esa hermana, hija o amiga perdida volviera a sentarse contigo en la Iglesia? Jesús quiere eso aún más que tu, y él te guiará mientras las alcanzas con amor y amist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Mientras consideras involucrarte en un ministerio de recuperación, trata de evaluar tus motivaciones. ¿Puedes ofrecer amistad genuina a los feligreses perdidos? Los feligreses inactivos se dan cuenta inmediatamente si realmente les importas. Debes estar dispuesta a volcar todo tu tiempo y esfuerzo en una amistad, aún cuando nunca regrese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8640" y="728640"/>
            <a:ext cx="4862520" cy="3646440"/>
          </a:xfrm>
          <a:prstGeom prst="rect">
            <a:avLst/>
          </a:prstGeom>
          <a:ln w="0">
            <a:noFill/>
          </a:ln>
        </p:spPr>
      </p:sp>
      <p:sp>
        <p:nvSpPr>
          <p:cNvPr id="15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Otras aspectos a tener en cuenta al comenzar un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 veces alcanza con una sola visita para que un feligrés inactivo se dé cuenta de que se lo extraña, y la persona regresará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ayoría de los feligreses ausente, sin embargo, necesitan tiempo para sanarse, tiempo para darse cuenta de que la Iglesia se preocupa, y tiempo para crecer en su relación con Dios y con otros miembr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Generalmente, cuanto más tiempo haya estado ausente una persona de la Iglesia, más tiempo tardará en regres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uchos miembros antiguos no sienten que han abandonado a Dios; solo creen que han abandonado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8640" y="728640"/>
            <a:ext cx="4862520" cy="3646440"/>
          </a:xfrm>
          <a:prstGeom prst="rect">
            <a:avLst/>
          </a:prstGeom>
          <a:ln w="0">
            <a:noFill/>
          </a:ln>
        </p:spPr>
      </p:sp>
      <p:sp>
        <p:nvSpPr>
          <p:cNvPr id="15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COMENZ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a con el pas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tu grupo del Ministerio de la Mujer posee un compromiso fuerte hacia la recuperación, hablen con su pastor acerca del inicio de un ministerio de recuperación para mujeres que han dejado de asistir a la Iglesia. Los pastores generalmente apoyarán éste tipo de ministerios porque rara vez tienen tiempo de visitar a dichos individuos, y generalmente no son bienvenidos en los hogares de aquellos que han dejado la Iglesia, especialmente si son de sexo femenino y están solas en sus hoga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B.</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Recoge inform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drán que hablar con el secretario de iglesia para averiguar los nombres de los feligreses que no asisten a la Iglesia y que todavía viven lo suficientemente cerca de la misma para asistir nuevamente. (Este programa no está diseñado para feligreses que se han mud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medios para encontrar Adventistas que ya no asisten a la Iglesia pero que viven en tu área 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irectorio de los miembros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feligre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ariente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erios evangelistas que ofrezcan cursos bíblicos como La voz de la Esperanza, Faith for Today, Escrito Está, Breath of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y listas de ex alumnos de instituciones educativa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s bíblicas de vacacio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 sabát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misión de bienvenida de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campestres, retiros espiritu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de Iglesia e ínter igles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e con la junta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a vez que consiguieron el apoyo de su pastor, propongan el plan a la junta de Iglesia para ser aprobado, y pídanle a los miembros de la junta que les provean de nombres de mujeres que deberían estar en la lista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D.</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Propongan el plan a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siguiente paso es presentar el plan a toda la Iglesia. Esto puede hacerse por medio de la directora del Ministerio de la Mujer, la directora del programa de recuperación o el pastor mismo.  Lo importante es darle a los feligreses la oportunidad de agregar nombres a la lista para que  se involucren en el programa. Necesitan saber que pronto volverán a ver rostros familiares que hacía mucho no veían en la Iglesia, y que deberán mostrarse amigables para que se sientan bienven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Armen un equipo del Ministerio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medida que crezca el interés por la recuperación de mujeres, llegará el momento para juntar un grupo de mujeres que llegarán a formar parte del equipo del Ministerio de Recuperación. Tendrás que reunirte con ellas para comenzar a formular planes para el ministerio. Deberían orar específicamente para que Dios les dé una visión clara del ministerio, los individuos a ser recuperados, y la manera en que Dios quiere utilizar a cada </a:t>
            </a:r>
            <a:r>
              <a:rPr b="0" lang="es-ES_tradnl" sz="800" spc="-1" strike="noStrike">
                <a:solidFill>
                  <a:srgbClr val="000000"/>
                </a:solidFill>
                <a:latin typeface="Century Gothic"/>
                <a:ea typeface="Times New Roman"/>
              </a:rPr>
              <a:t>m</a:t>
            </a:r>
            <a:r>
              <a:rPr b="0" lang="es-ES" sz="800" spc="-1" strike="noStrike">
                <a:solidFill>
                  <a:srgbClr val="000000"/>
                </a:solidFill>
                <a:latin typeface="Century Gothic"/>
                <a:ea typeface="Times New Roman"/>
              </a:rPr>
              <a:t>ujer del equip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8640" y="728640"/>
            <a:ext cx="4862520" cy="3646440"/>
          </a:xfrm>
          <a:prstGeom prst="rect">
            <a:avLst/>
          </a:prstGeom>
          <a:ln w="0">
            <a:noFill/>
          </a:ln>
        </p:spPr>
      </p:sp>
      <p:sp>
        <p:nvSpPr>
          <p:cNvPr id="15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ORGANIZAR EL EQUIPO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cantidad de mujeres necesarias para el equipo depende del tamaño  de tu Iglesia y la cantidad de mujeres que serán recuper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ecesitas líderes del equipo para que coordinen el ministerio. Más adelante necesitarás un líder del ministerio de recuperación y un líder de estudios bíbl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líder del ministerio debería ser una mujer que tiene una visión de recuperación y que posea el don del lideraz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líder de estudios bíblicas debería tener el don de la enseñanza y ser capaz de dirigir a un pequeño grupo en una serie de estudios bíblic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8640" y="728640"/>
            <a:ext cx="4862520" cy="3646440"/>
          </a:xfrm>
          <a:prstGeom prst="rect">
            <a:avLst/>
          </a:prstGeom>
          <a:ln w="0">
            <a:noFill/>
          </a:ln>
        </p:spPr>
      </p:sp>
      <p:sp>
        <p:nvSpPr>
          <p:cNvPr id="16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 Iglesias más grandes también necesitarás un asistente para el líder del ministerio de recuperación, un coordinador de eventos y un coordinador de información (secretario)</a:t>
            </a:r>
            <a:r>
              <a:rPr b="0" lang="es-ES_tradnl"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asistente del líder del ministerio debería tener dones administrativos para asistir al líder, cubriendo sus responsabilidades en su ausencia, y ayudando en general a manejar los detalles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ordinador de información (secretario) debería ser una persona dotada de capacidades detallistas, quien ingresará los nombres a una base de datos (en computadora o fichero) y mantener un registro del progreso de cada feligrés que ha dejado de asistir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256B7-EC9E-42E3-913F-ECF9E4355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8665C-4C1D-4754-9BE6-40E90E6E9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1289D-68C5-46DD-BD50-27CCB9986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93F23-8214-4294-B724-C39B1CA29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6CD2C-3807-40DB-ACA3-47B8845F4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FAA4A-91FE-4DC7-90CF-1828AC508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5F297-64E9-438C-847D-E6E9ED2B5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F930D-E2D8-4F64-AAA2-1EB1DC25C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6B83D-F70B-490C-B6E9-2DA5056B7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2DB25-F57F-4695-A585-F74754664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AC88E-B9E2-47AE-AC08-159810553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1A11-BF5D-4E7D-8611-83497CBDE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6BB4E-52AE-4996-B7F3-91B8D90DB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EB9FA-ACA1-41C6-B9A7-F9D7572A2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75DC1-114C-4B23-B43D-D0E1F57EB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66039-3331-4BA8-998F-99DDE9524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F4A5B-078A-4499-A288-2F5F5C4BF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E8A97-E323-4E1D-BF56-E8D7F8C65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6C0D7-C0D7-4219-96C6-BDF21687E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C9D42-5FE0-44A2-BDCA-9EDC4D288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0963E-519E-4860-AED9-906F70D67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7E145-A3F4-433D-8636-492D6F0C1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080D9-07AF-4B4B-9FCB-1F690D898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BF97C-044C-4FC3-89F5-DB02BAA65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88DF-4119-4D8A-A26B-847FE156EA0D}"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7083-7247-435D-9F41-91A8E9CBA215}"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100698"/>
                </a:solidFill>
                <a:latin typeface="Trebuchet MS"/>
              </a:rPr>
              <a:t>Cómo recuperar ex miembros</a:t>
            </a:r>
            <a:endParaRPr b="1" lang="en-US" sz="4400" spc="-1" strike="noStrike">
              <a:solidFill>
                <a:srgbClr val="dde3dc"/>
              </a:solidFill>
              <a:latin typeface="Trebuchet MS"/>
            </a:endParaRPr>
          </a:p>
        </p:txBody>
      </p:sp>
      <p:sp>
        <p:nvSpPr>
          <p:cNvPr id="90" name="PlaceHolder 2"/>
          <p:cNvSpPr>
            <a:spLocks noGrp="1"/>
          </p:cNvSpPr>
          <p:nvPr>
            <p:ph/>
          </p:nvPr>
        </p:nvSpPr>
        <p:spPr>
          <a:xfrm>
            <a:off x="3580920" y="2971800"/>
            <a:ext cx="5257800" cy="27432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Por Carla Bak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Curso de liderazgo nivel 2</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Ministerio de la muj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Asociación General</a:t>
            </a:r>
            <a:endParaRPr b="0" lang="en-US" sz="32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1143000" y="1905120"/>
            <a:ext cx="24703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066680"/>
            <a:ext cx="8077320" cy="563904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Coordinadora de eventos—debería poseer dones de hospitalidad y administración para coordinar eventos sociales y reuniones a las cuales serán invitados los feligreses perdidos.</a:t>
            </a: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Mentoras—Mujeres que entrarán en contacto con las mujeres que serán recuperadas, y que las amarán para que vuelvan a la Iglesia.</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Pautas generales</a:t>
            </a:r>
            <a:endParaRPr b="1" lang="en-US" sz="4400" spc="-1" strike="noStrike">
              <a:solidFill>
                <a:srgbClr val="dde3dc"/>
              </a:solidFill>
              <a:latin typeface="Trebuchet MS"/>
            </a:endParaRPr>
          </a:p>
        </p:txBody>
      </p:sp>
      <p:sp>
        <p:nvSpPr>
          <p:cNvPr id="106" name="PlaceHolder 2"/>
          <p:cNvSpPr>
            <a:spLocks noGrp="1"/>
          </p:cNvSpPr>
          <p:nvPr>
            <p:ph/>
          </p:nvPr>
        </p:nvSpPr>
        <p:spPr>
          <a:xfrm>
            <a:off x="3429000" y="1447920"/>
            <a:ext cx="5486400" cy="49528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Siempre incluyan una sesión de oración antes de comenzar.</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Dediquen parte de la reunión para informes de mentores.</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Informen los contactos al coordinador de información.</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ntes de terminar planifiquen la próxima reunión.</a:t>
            </a:r>
            <a:endParaRPr b="0" lang="en-US" sz="3000" spc="-1" strike="noStrike">
              <a:solidFill>
                <a:srgbClr val="dde3dc"/>
              </a:solidFill>
              <a:latin typeface="Trebuchet MS"/>
            </a:endParaRPr>
          </a:p>
        </p:txBody>
      </p:sp>
      <p:pic>
        <p:nvPicPr>
          <p:cNvPr id="107" name="" descr=""/>
          <p:cNvPicPr/>
          <p:nvPr/>
        </p:nvPicPr>
        <p:blipFill>
          <a:blip r:embed="rId2"/>
          <a:stretch/>
        </p:blipFill>
        <p:spPr>
          <a:xfrm>
            <a:off x="990720" y="19810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685440"/>
            <a:ext cx="57909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100698"/>
                </a:solidFill>
                <a:latin typeface="Trebuchet MS"/>
              </a:rPr>
              <a:t>Un equipo efectivo necesita hacer los siguiente:</a:t>
            </a:r>
            <a:endParaRPr b="1" lang="en-US" sz="3400" spc="-1" strike="noStrike">
              <a:solidFill>
                <a:srgbClr val="dde3dc"/>
              </a:solidFill>
              <a:latin typeface="Trebuchet MS"/>
            </a:endParaRPr>
          </a:p>
        </p:txBody>
      </p:sp>
      <p:sp>
        <p:nvSpPr>
          <p:cNvPr id="109"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firmar a la líder y apoyarla.</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stablecer líneas claras de comunicació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r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frentar los conflictos que puedan surgir.</a:t>
            </a:r>
            <a:endParaRPr b="0" lang="en-US" sz="3200" spc="-1" strike="noStrike">
              <a:solidFill>
                <a:srgbClr val="dde3dc"/>
              </a:solidFill>
              <a:latin typeface="Trebuchet MS"/>
            </a:endParaRPr>
          </a:p>
        </p:txBody>
      </p:sp>
      <p:pic>
        <p:nvPicPr>
          <p:cNvPr id="110" name="" descr=""/>
          <p:cNvPicPr/>
          <p:nvPr/>
        </p:nvPicPr>
        <p:blipFill>
          <a:blip r:embed="rId2"/>
          <a:stretch/>
        </p:blipFill>
        <p:spPr>
          <a:xfrm>
            <a:off x="990720" y="2362320"/>
            <a:ext cx="236196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inistrando a los perdidos</a:t>
            </a:r>
            <a:endParaRPr b="1" lang="en-US" sz="4400" spc="-1" strike="noStrike">
              <a:solidFill>
                <a:srgbClr val="dde3dc"/>
              </a:solidFill>
              <a:latin typeface="Trebuchet MS"/>
            </a:endParaRPr>
          </a:p>
        </p:txBody>
      </p:sp>
      <p:sp>
        <p:nvSpPr>
          <p:cNvPr id="112" name="PlaceHolder 2"/>
          <p:cNvSpPr>
            <a:spLocks noGrp="1"/>
          </p:cNvSpPr>
          <p:nvPr>
            <p:ph/>
          </p:nvPr>
        </p:nvSpPr>
        <p:spPr>
          <a:xfrm>
            <a:off x="2742840" y="1981080"/>
            <a:ext cx="6172200" cy="457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azones por las cuales las mujeres dej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identificar mujeres que abandon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entrar en contacto con feligreses perdidos</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914400" y="327672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457200"/>
            <a:ext cx="7010640" cy="13716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Razones por las cuales las mujeres dejan de asistir a la Iglesia</a:t>
            </a:r>
            <a:endParaRPr b="1" lang="en-US" sz="4000" spc="-1" strike="noStrike">
              <a:solidFill>
                <a:srgbClr val="dde3dc"/>
              </a:solidFill>
              <a:latin typeface="Trebuchet MS"/>
            </a:endParaRPr>
          </a:p>
        </p:txBody>
      </p:sp>
      <p:sp>
        <p:nvSpPr>
          <p:cNvPr id="115"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cónyuge y/o divorcio</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otro miembro de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slado a otra ciudad sin seguimiento por parte de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nsición a una nueva etapa de la vid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Pérdida de conexión con Dio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ledad y sentimiento de que no pertenece</a:t>
            </a:r>
            <a:endParaRPr b="0" lang="en-US" sz="2800" spc="-1" strike="noStrike">
              <a:solidFill>
                <a:srgbClr val="dde3dc"/>
              </a:solidFill>
              <a:latin typeface="Trebuchet MS"/>
            </a:endParaRPr>
          </a:p>
        </p:txBody>
      </p:sp>
      <p:pic>
        <p:nvPicPr>
          <p:cNvPr id="116"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istencia—¿Realmente les importará si vuelv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specha—¿Formaré parte de algún proyecto de Iglesia?</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ojo—¡No quiero hablar contig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rpresa—Eres la primer persona que entra en contacto conmigo desde que dejé de asistir hace años.</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acilación—¿Qué deseas? ¿Dinero?</a:t>
            </a:r>
            <a:endParaRPr b="0" lang="en-US" sz="3200" spc="-1" strike="noStrike">
              <a:solidFill>
                <a:srgbClr val="dde3dc"/>
              </a:solidFill>
              <a:latin typeface="Trebuchet MS"/>
            </a:endParaRPr>
          </a:p>
        </p:txBody>
      </p:sp>
      <p:sp>
        <p:nvSpPr>
          <p:cNvPr id="118" name=""/>
          <p:cNvSpPr/>
          <p:nvPr/>
        </p:nvSpPr>
        <p:spPr>
          <a:xfrm>
            <a:off x="1981080" y="5335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Emociones que podrían enfrentar</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100698"/>
                </a:solidFill>
                <a:latin typeface="Trebuchet MS"/>
              </a:rPr>
              <a:t>El proceso de sanidad</a:t>
            </a:r>
            <a:br>
              <a:rPr sz="4400"/>
            </a:br>
            <a:endParaRPr b="1" lang="en-US" sz="4400" spc="-1" strike="noStrike">
              <a:solidFill>
                <a:srgbClr val="dde3dc"/>
              </a:solidFill>
              <a:latin typeface="Trebuchet MS"/>
            </a:endParaRPr>
          </a:p>
        </p:txBody>
      </p:sp>
      <p:sp>
        <p:nvSpPr>
          <p:cNvPr id="120"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prenda a ser una oyente más efectiv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demostrar que te preocupas por las mujeres que han dejado de asistir a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ministrar las necesidades de las mujeres que ya no asisten a la Iglesia</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2"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Muestra interés genuino en ell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nríe con frecuenc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Recuerda nombres de personas que le interesan.</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Habla de sus interese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amiga sincer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buena oyente.</a:t>
            </a:r>
            <a:endParaRPr b="0" lang="en-US" sz="2800" spc="-1" strike="noStrike">
              <a:solidFill>
                <a:srgbClr val="dde3dc"/>
              </a:solidFill>
              <a:latin typeface="Trebuchet MS"/>
            </a:endParaRPr>
          </a:p>
        </p:txBody>
      </p:sp>
      <p:pic>
        <p:nvPicPr>
          <p:cNvPr id="123" name="" descr=""/>
          <p:cNvPicPr/>
          <p:nvPr/>
        </p:nvPicPr>
        <p:blipFill>
          <a:blip r:embed="rId2"/>
          <a:stretch/>
        </p:blipFill>
        <p:spPr>
          <a:xfrm>
            <a:off x="1066680" y="2895480"/>
            <a:ext cx="1297080" cy="21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752480"/>
            <a:ext cx="6172200" cy="457200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antén sus confidencias en estricto secreto.</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estás allí para hablar, retar, pedir o rogar.</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seas defensiva. </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uestra empatía.</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en una actitud abierta, honesta y de aceptación.</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oma las cosas con calma.</a:t>
            </a:r>
            <a:endParaRPr b="0" lang="en-US" sz="3200" spc="-1" strike="noStrike">
              <a:solidFill>
                <a:srgbClr val="dde3dc"/>
              </a:solidFill>
              <a:latin typeface="Trebuchet MS"/>
            </a:endParaRPr>
          </a:p>
        </p:txBody>
      </p:sp>
      <p:pic>
        <p:nvPicPr>
          <p:cNvPr id="126" name="" descr=""/>
          <p:cNvPicPr/>
          <p:nvPr/>
        </p:nvPicPr>
        <p:blipFill>
          <a:blip r:embed="rId2"/>
          <a:stretch/>
        </p:blipFill>
        <p:spPr>
          <a:xfrm flipH="1">
            <a:off x="762120" y="304812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aneras de demostrar preocupación</a:t>
            </a:r>
            <a:endParaRPr b="1" lang="en-US" sz="4400" spc="-1" strike="noStrike">
              <a:solidFill>
                <a:srgbClr val="dde3dc"/>
              </a:solidFill>
              <a:latin typeface="Trebuchet MS"/>
            </a:endParaRPr>
          </a:p>
        </p:txBody>
      </p:sp>
      <p:sp>
        <p:nvSpPr>
          <p:cNvPr id="128" name="PlaceHolder 2"/>
          <p:cNvSpPr>
            <a:spLocks noGrp="1"/>
          </p:cNvSpPr>
          <p:nvPr>
            <p:ph/>
          </p:nvPr>
        </p:nvSpPr>
        <p:spPr>
          <a:xfrm>
            <a:off x="990720" y="1371600"/>
            <a:ext cx="7315200" cy="4572000"/>
          </a:xfrm>
          <a:prstGeom prst="rect">
            <a:avLst/>
          </a:prstGeom>
          <a:noFill/>
          <a:ln w="0">
            <a:noFill/>
          </a:ln>
        </p:spPr>
        <p:txBody>
          <a:bodyPr lIns="90000" rIns="90000" tIns="46800" bIns="46800" anchor="t">
            <a:normAutofit fontScale="91000"/>
          </a:bodyPr>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No le caigas de sorpresa.  </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Encuéntrense para almorzar.</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Mantén una actitud positiva y de apoyo.</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speta su espacio personal y ofrezca encontrarse en un lugar neutral.</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verigua si hay algo que puedas hacer por ella en forma personal, cuidar de sus hijos, grupo de apoyo, o necesidades materiales.</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cuerda que debes pasar mucho tiempo </a:t>
            </a:r>
            <a:r>
              <a:rPr b="0" i="1" lang="es-ES" sz="3000" spc="-1" strike="noStrike">
                <a:solidFill>
                  <a:srgbClr val="ffffff"/>
                </a:solidFill>
                <a:latin typeface="Trebuchet MS"/>
              </a:rPr>
              <a:t>escuchando</a:t>
            </a:r>
            <a:r>
              <a:rPr b="0" lang="es-ES" sz="3000" spc="-1" strike="noStrike">
                <a:solidFill>
                  <a:srgbClr val="ffffff"/>
                </a:solidFill>
                <a:latin typeface="Trebuchet MS"/>
              </a:rPr>
              <a:t>!</a:t>
            </a:r>
            <a:endParaRPr b="0" lang="en-US" sz="3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219320" y="1980720"/>
            <a:ext cx="6858000" cy="5715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rebuchet MS"/>
              </a:rPr>
              <a:t>“</a:t>
            </a:r>
            <a:r>
              <a:rPr b="1" lang="es-ES_tradnl" sz="2400" spc="-1" strike="noStrike">
                <a:solidFill>
                  <a:srgbClr val="ffffff"/>
                </a:solidFill>
                <a:latin typeface="Trebuchet MS"/>
              </a:rPr>
              <a:t>¿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rebuchet MS"/>
              </a:rPr>
              <a:t>Lucas 15:4-6 (RV)</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construir relaciones con mujeres que ya no asisten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saber cuando y dónde compartir tu fe con una mujer que no está asistiendo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mujeres que forman parte de tu plan de recuperación a unirse a un grupo pequeño o de estudio de la Biblia</a:t>
            </a:r>
            <a:endParaRPr b="0" lang="en-US" sz="2800" spc="-1" strike="noStrike">
              <a:solidFill>
                <a:srgbClr val="dde3dc"/>
              </a:solidFill>
              <a:latin typeface="Trebuchet MS"/>
            </a:endParaRPr>
          </a:p>
        </p:txBody>
      </p:sp>
      <p:sp>
        <p:nvSpPr>
          <p:cNvPr id="130" name=""/>
          <p:cNvSpPr/>
          <p:nvPr/>
        </p:nvSpPr>
        <p:spPr>
          <a:xfrm>
            <a:off x="1981080" y="68580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Cómo construir fe y confianza</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aracterísticas de un amigo</a:t>
            </a:r>
            <a:endParaRPr b="1" lang="en-US" sz="4400" spc="-1" strike="noStrike">
              <a:solidFill>
                <a:srgbClr val="dde3dc"/>
              </a:solidFill>
              <a:latin typeface="Trebuchet MS"/>
            </a:endParaRPr>
          </a:p>
        </p:txBody>
      </p:sp>
      <p:sp>
        <p:nvSpPr>
          <p:cNvPr id="132"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miente</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as decision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ustenta tu dignidad y valor propio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Quiere lo mejor para ti</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Honra tus confidencias</a:t>
            </a:r>
            <a:endParaRPr b="0" lang="en-US" sz="3200" spc="-1" strike="noStrike">
              <a:solidFill>
                <a:srgbClr val="dde3dc"/>
              </a:solidFill>
              <a:latin typeface="Trebuchet MS"/>
            </a:endParaRPr>
          </a:p>
        </p:txBody>
      </p:sp>
      <p:pic>
        <p:nvPicPr>
          <p:cNvPr id="133" name="" descr=""/>
          <p:cNvPicPr/>
          <p:nvPr/>
        </p:nvPicPr>
        <p:blipFill>
          <a:blip r:embed="rId2"/>
          <a:stretch/>
        </p:blipFill>
        <p:spPr>
          <a:xfrm>
            <a:off x="990720" y="2666880"/>
            <a:ext cx="2201760" cy="30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858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Otros factores a tener en cuenta</a:t>
            </a:r>
            <a:endParaRPr b="1" lang="en-US" sz="4400" spc="-1" strike="noStrike">
              <a:solidFill>
                <a:srgbClr val="dde3dc"/>
              </a:solidFill>
              <a:latin typeface="Trebuchet MS"/>
            </a:endParaRPr>
          </a:p>
        </p:txBody>
      </p:sp>
      <p:sp>
        <p:nvSpPr>
          <p:cNvPr id="135" name="PlaceHolder 2"/>
          <p:cNvSpPr>
            <a:spLocks noGrp="1"/>
          </p:cNvSpPr>
          <p:nvPr>
            <p:ph/>
          </p:nvPr>
        </p:nvSpPr>
        <p:spPr>
          <a:xfrm>
            <a:off x="1066320" y="1980720"/>
            <a:ext cx="7162920" cy="441972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mujer que estás ayudando probablemente sigue creyendo en las enseñanzas adventistas, aún si ha olvidado algunas de ell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necesita sermones acerca de las distintas norm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sido herida por la Iglesia u otro feligrés adventis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hecho algo por lo que siente que Dios no la puede perdonar.</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lla no compartirá sus verdaderos sentimientos hasta que confía plenamente en ti.</a:t>
            </a:r>
            <a:endParaRPr b="0" lang="en-US" sz="2400" spc="-1" strike="noStrike">
              <a:solidFill>
                <a:srgbClr val="dde3dc"/>
              </a:solidFill>
              <a:latin typeface="Trebuchet MS"/>
            </a:endParaRPr>
          </a:p>
        </p:txBody>
      </p:sp>
      <p:pic>
        <p:nvPicPr>
          <p:cNvPr id="136" name="" descr=""/>
          <p:cNvPicPr/>
          <p:nvPr/>
        </p:nvPicPr>
        <p:blipFill>
          <a:blip r:embed="rId2"/>
          <a:stretch/>
        </p:blipFill>
        <p:spPr>
          <a:xfrm>
            <a:off x="7620120" y="1447920"/>
            <a:ext cx="915840" cy="7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294920"/>
            <a:ext cx="861048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Evita discusion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en cuidado de no desviarte con asuntos doctrinales si su comunión con Dios está un poco tembleque.</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ando hables haz referencia a sus necesidad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enta la historia de tu conversión/enamoramiento con el Señor y de cuán importante es en tu vid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No la fuerc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bondadosa y compasiv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ambia de tema si ella no quiere hablar de algo en particular.</a:t>
            </a:r>
            <a:endParaRPr b="0" lang="en-US" sz="2800" spc="-1" strike="noStrike">
              <a:solidFill>
                <a:srgbClr val="dde3dc"/>
              </a:solidFill>
              <a:latin typeface="Trebuchet MS"/>
            </a:endParaRPr>
          </a:p>
        </p:txBody>
      </p:sp>
      <p:sp>
        <p:nvSpPr>
          <p:cNvPr id="138" name=""/>
          <p:cNvSpPr/>
          <p:nvPr/>
        </p:nvSpPr>
        <p:spPr>
          <a:xfrm>
            <a:off x="2133720" y="6094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Maneras de compartir tu fe</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457200"/>
            <a:ext cx="563904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novando un compromiso con Cristo</a:t>
            </a:r>
            <a:endParaRPr b="1" lang="en-US" sz="4400" spc="-1" strike="noStrike">
              <a:solidFill>
                <a:srgbClr val="dde3dc"/>
              </a:solidFill>
              <a:latin typeface="Trebuchet MS"/>
            </a:endParaRPr>
          </a:p>
        </p:txBody>
      </p:sp>
      <p:sp>
        <p:nvSpPr>
          <p:cNvPr id="140" name="PlaceHolder 2"/>
          <p:cNvSpPr>
            <a:spLocks noGrp="1"/>
          </p:cNvSpPr>
          <p:nvPr>
            <p:ph type="subTitle"/>
          </p:nvPr>
        </p:nvSpPr>
        <p:spPr>
          <a:xfrm>
            <a:off x="685800" y="2057040"/>
            <a:ext cx="3581280" cy="609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p:txBody>
      </p:sp>
      <p:sp>
        <p:nvSpPr>
          <p:cNvPr id="141" name=""/>
          <p:cNvSpPr/>
          <p:nvPr/>
        </p:nvSpPr>
        <p:spPr>
          <a:xfrm>
            <a:off x="3124080" y="2514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asistir a la Iglesia el sábad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una reunión de evangelism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planificar eventos para darle la bienvenida nuevamente a las feligresas perdidas a la Iglesia</a:t>
            </a:r>
            <a:endParaRPr b="0" lang="en-US" sz="2800" spc="-1" strike="noStrike">
              <a:solidFill>
                <a:srgbClr val="dde3dc"/>
              </a:solidFill>
              <a:latin typeface="Times New Roman"/>
            </a:endParaRPr>
          </a:p>
        </p:txBody>
      </p:sp>
      <p:pic>
        <p:nvPicPr>
          <p:cNvPr id="142" name="" descr=""/>
          <p:cNvPicPr/>
          <p:nvPr/>
        </p:nvPicPr>
        <p:blipFill>
          <a:blip r:embed="rId2"/>
          <a:stretch/>
        </p:blipFill>
        <p:spPr>
          <a:xfrm>
            <a:off x="1066680" y="361944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762120"/>
            <a:ext cx="579096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Volviendo a la Iglesia</a:t>
            </a:r>
            <a:endParaRPr b="1" lang="en-US" sz="3600" spc="-1" strike="noStrike">
              <a:solidFill>
                <a:srgbClr val="dde3dc"/>
              </a:solidFill>
              <a:latin typeface="Trebuchet MS"/>
            </a:endParaRPr>
          </a:p>
        </p:txBody>
      </p:sp>
      <p:sp>
        <p:nvSpPr>
          <p:cNvPr id="144" name="PlaceHolder 2"/>
          <p:cNvSpPr>
            <a:spLocks noGrp="1"/>
          </p:cNvSpPr>
          <p:nvPr>
            <p:ph/>
          </p:nvPr>
        </p:nvSpPr>
        <p:spPr>
          <a:xfrm>
            <a:off x="838080" y="2133360"/>
            <a:ext cx="8305920" cy="472428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Ofrécete para buscarla y llevarla a la Iglesi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trena a los encargados de la recepción, dar la bienvenida y que saluden calurosamente a los feligreses perdidos sin preguntar porqué han estado ausentes por tanto tiempo.</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unirse a tu clase de Escuela Sabátic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hagan que se ponga de pie para presentarse o que tenga que llevar un cartelito que diga “visi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ella con su familia a almorzar en tu hoga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uniones de seguimiento</a:t>
            </a:r>
            <a:endParaRPr b="1" lang="en-US" sz="4400" spc="-1" strike="noStrike">
              <a:solidFill>
                <a:srgbClr val="dde3dc"/>
              </a:solidFill>
              <a:latin typeface="Trebuchet MS"/>
            </a:endParaRPr>
          </a:p>
        </p:txBody>
      </p:sp>
      <p:sp>
        <p:nvSpPr>
          <p:cNvPr id="146"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7000"/>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Nutrir y discipular a las mujeres que han regresado a la Iglesia para prevenir que vuelvan a abandonarla</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Involucrar a las recién llegadas en el ministerio</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Alabar a Dios por sus bendiciones en su ministerio</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914400" y="2514600"/>
            <a:ext cx="1152360" cy="20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600200"/>
            <a:ext cx="7620120" cy="5867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O qué mujer que tiene diez dracmas, no enciende la lámpara, y barre la casa, y busca con diligencia hasta encontrarla? Y cuando la encuentra, reúne a sus amigas y vecinas, diciendo: Gozaos y alegraos conmigo, porque he encontrado la dracma que había perdido.’”</a:t>
            </a:r>
            <a:endParaRPr b="0" lang="en-US" sz="2800" spc="-1" strike="noStrike">
              <a:solidFill>
                <a:srgbClr val="dde3dc"/>
              </a:solidFill>
              <a:latin typeface="Trebuchet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rebuchet MS"/>
              </a:rPr>
              <a:t>Lucas 15:8, 9 (R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a:t>
            </a:r>
            <a:r>
              <a:rPr b="1" lang="es-ES" sz="4000" spc="-1" strike="noStrike">
                <a:solidFill>
                  <a:srgbClr val="100698"/>
                </a:solidFill>
                <a:latin typeface="Trebuchet MS"/>
              </a:rPr>
              <a:t>Así os digo que hay gozo delante de los ángeles de Dios por un pecador que se arrepiente.”</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Lucas 15:10 (R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1828800"/>
            <a:ext cx="7010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veces alcanza con una sola visita para que un feligrés inactivo se dé cuenta de que se lo extraña, y la persona regresará a la Iglesia.</a:t>
            </a:r>
            <a:endParaRPr b="0" lang="en-US" sz="28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mayoría de los feligreses ausente, sin embargo, necesitan tiempo para sanarse, tiempo para darse cuenta de que la Iglesia se preocupa, y tiempo para crecer en su relación con Dios y con otros miembros.</a:t>
            </a:r>
            <a:endParaRPr b="0" lang="en-US" sz="2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2640" y="1676520"/>
            <a:ext cx="762012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Generalmente, cuanto más tiempo haya estado ausente una persona de la Iglesia, más tiempo tardará en regresar.</a:t>
            </a:r>
            <a:endParaRPr b="0" lang="en-US" sz="3600" spc="-1" strike="noStrike">
              <a:solidFill>
                <a:srgbClr val="dde3dc"/>
              </a:solidFill>
              <a:latin typeface="Trebuchet MS"/>
            </a:endParaRPr>
          </a:p>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Muchos miembros antiguos no sienten que han abandonado a Dios; solo creen que han abandonado la Iglesia.</a:t>
            </a: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comenzar</a:t>
            </a:r>
            <a:endParaRPr b="1" lang="en-US" sz="4400" spc="-1" strike="noStrike">
              <a:solidFill>
                <a:srgbClr val="dde3dc"/>
              </a:solidFill>
              <a:latin typeface="Trebuchet MS"/>
            </a:endParaRPr>
          </a:p>
        </p:txBody>
      </p:sp>
      <p:sp>
        <p:nvSpPr>
          <p:cNvPr id="99"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 Hablen con el pastor</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B. Recopilen información</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 Hablen con la junta de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D. Presenten el plan a la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 Armen un equipo del ministerio de recuperación.</a:t>
            </a:r>
            <a:endParaRPr b="0" lang="en-US" sz="3200" spc="-1" strike="noStrike">
              <a:solidFill>
                <a:srgbClr val="dde3dc"/>
              </a:solidFill>
              <a:latin typeface="Trebuchet MS"/>
            </a:endParaRPr>
          </a:p>
        </p:txBody>
      </p:sp>
      <p:pic>
        <p:nvPicPr>
          <p:cNvPr id="100"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Equipo del ministerio de recuperación</a:t>
            </a:r>
            <a:endParaRPr b="1" lang="en-US" sz="4400" spc="-1" strike="noStrike">
              <a:solidFill>
                <a:srgbClr val="dde3dc"/>
              </a:solidFill>
              <a:latin typeface="Trebuchet MS"/>
            </a:endParaRPr>
          </a:p>
        </p:txBody>
      </p:sp>
      <p:sp>
        <p:nvSpPr>
          <p:cNvPr id="102"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7000"/>
          </a:bodyPr>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l ministerio—Una mujer que tiene una visión de recuperación y que posea el don del liderazgo.</a:t>
            </a:r>
            <a:endParaRPr b="0" lang="en-US" sz="3400" spc="-1" strike="noStrike">
              <a:solidFill>
                <a:srgbClr val="dde3dc"/>
              </a:solidFill>
              <a:latin typeface="Trebuchet MS"/>
            </a:endParaRPr>
          </a:p>
          <a:p>
            <a:pPr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 estudios bíblicos—Una mujer con el don de la enseñanza y la capacidad de dirigir a un pequeño grupo en una serie de estudios bíblico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218960"/>
            <a:ext cx="80773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sistente del líder del ministerio—debería tener dones administrativos para asistir al líder, ayudando a manejar los detalles del ministerio de recuperación.</a:t>
            </a:r>
            <a:endParaRPr b="0" lang="en-US" sz="2800" spc="-1" strike="noStrike">
              <a:solidFill>
                <a:srgbClr val="dde3dc"/>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ordinadora de información (secretaria)—Una persona dotada de capacidades detallistas, quien ingresará los nombres a una base de datos y mantener un registro del progreso de cada feligrés que ha dejado de asistir a la Iglesia.</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Sede Administrativa</cp:lastModifiedBy>
  <dcterms:modified xsi:type="dcterms:W3CDTF">2005-10-11T16:29:56Z</dcterms:modified>
  <cp:revision>66</cp:revision>
  <dc:subject/>
  <dc:title>Reclaiming Former Members</dc:title>
</cp:coreProperties>
</file>